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4FFD5B-DCC1-4900-8B80-5EFF840D3BD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D33D3C-AFD6-43C7-A1DF-8461AD16E1C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509A98-376D-4F52-91F2-39BD739C38C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889A60-0D6B-4139-8D56-755B2C36189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6ECBCE-27BE-4D43-B98B-3E1B8D39BEC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DC030C-F905-4C33-8AD2-B0926CD4042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BCBAD5-0A92-4780-996C-9139691B8B5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ADEACC-E753-47A9-90A7-9204D5B1962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C3A7F0-727C-4038-8D44-4E967F2745A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AD24B-1A28-4367-8982-B8FBE99C95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ED7C9-72D0-46E8-BA45-ACA1D2F8586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D5416-1BC8-4014-9BBF-38BB21020C0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98352-41F2-49F6-B217-A057273779E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C1F92-F3FA-45FA-B303-15B98BF97D7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3F964-4764-4269-8B01-C87F2F63A05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15054-1CE2-44CB-8A8B-2D2B9E41FAB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9241D-E691-47EC-B402-937A97848E7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96ED5-6EF3-4188-B3C0-2D54279512F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C29C7-9897-4C04-BA53-562A402FBF1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2EC69-B9CA-4F06-A0FE-78C18B1C93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DB469-1086-4DC1-9AB3-4FC0A2179DD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5D25E7-A7BA-453A-A556-6FEFB724BF8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1DD231-7856-4D6A-9477-8522937CD24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DE8CD4-FF23-4556-919A-608D275749F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13AF57-CCB9-4E1E-BE18-13BEBEC1FA6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07EDC9-FEB7-4ED8-A31F-2BF4082CE96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F75C01-8F46-4184-B9B1-56B22F38C24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D3CB65-17AA-4F61-B1C5-AD892A162E4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C7BC1F-BCD3-474E-88CC-890B4BACDD4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B83606-E156-4D12-9B27-EFDEB2A944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35C2C-526F-4EF8-952A-71645CA0725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C4468A-8648-443A-A76A-1E7AB9B23FF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EE69FF-1DC4-483B-9CFA-2F7EBD2874A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DB68A1-D7FA-4018-9C85-C5B9CBF0C7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E02CF-9FAF-4367-B3A4-FC78F78829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D7FEA-7377-4E37-BA4B-D99CA8BAC1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76704-B144-4CDE-8412-BD7A7F6263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EC145-70D9-4A83-94DD-A5CCF9FBD70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BF07F-67C9-4010-A3A1-3D580FAEED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3A386-F159-41A9-A49C-68E0ABFBA3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DFA28-399C-46A0-97A2-C023356FF7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73FAA-CB0D-460F-A8D2-C30B38DBA8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70D24-8267-4943-A919-275C012053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EE39B-9CE4-4E53-92EB-FB92857D71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62CEC-569F-46C1-A39A-FBA46C380A8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0D9277-77B8-4B2C-94D0-1ABE708DB3D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FA718A-D331-4F83-9D4E-3956DB9204F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5A72E9-ACBA-493C-AEBD-3379B8AF6E8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8013C8-0939-42E8-9F07-8BA2144BD1F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B35B94-6FC2-4498-8B2E-F4E6AB7CD2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E1CD7F-7330-43F4-806C-E33A5492643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CC75E3-50BC-4065-8722-B7536EBA0B4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301474-AAD2-41E1-AB6E-89354A7D75E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A7649-6938-41A3-A5B6-F029DCB6875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BDA2E6-E7A2-4D50-B01E-1D6F0155EE8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08EA88-2957-4A59-8EAA-D1B3D69D5E0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267727-AA55-4C1C-9BBD-60C92712C92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1E414-0CD4-4E7E-8255-EC2607FF459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BFB4-5706-4311-89F8-1B4AF27B94C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0B52-459A-4B14-AFF3-CABDCB18C1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33C1-8187-4DAF-B6BA-AD50CE99A11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99F5-2ACA-4A9F-B333-78D83F2060C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5C9E-FA24-4B8B-A7EC-171DAB780B0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26F75-D574-4E3A-9287-50F89C9B5DC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C778-E2AB-4C7A-89DE-C47D8B3A8FC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5DE0-57F2-4F25-A10D-CFAE23C2AA7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98525-8FEF-47B7-A330-B442A6390DC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ED0BF-0822-4010-ADAB-611DF80979C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9EBC-F121-4821-84E3-A977DF7796E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99F023-19A2-46D1-B7A9-26ED00649E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84FA24-4245-466A-BCB2-2191E2F741F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679284-CA05-44A1-8D21-C47D417877C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F78E91-D83F-4B74-9335-EDB36D612CC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23A35D-228A-4C1A-9530-33ED5729097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0EB782-4015-4AF5-B874-80CC0837F27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19DFDD-1B03-4461-A1BE-4DC90DF2AB9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A8B5D7-6E37-41EE-9935-E3B39D494FF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38663B-60C7-4DD8-97E2-FCD2FBAD4DF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CC21A9-0261-4BA7-AB0B-5AB87E8CF36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32662E-8B26-46A9-847E-9D4FC7C4B0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8D1411-ECE9-4562-9449-1EEE0AE0EA2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552A22-8340-4995-ABB2-FCE5AF98409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13D142-C9F1-4795-8F5F-A8A46BDFFAA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E75159-DD2A-47D4-B784-09CD2061CA7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89F257-9FBB-41F7-ADCE-37149B492CE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C60602-BB85-4B15-AC4A-F030F92E12E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F859F4-6F0E-4124-96EA-DA857666EE8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7B70A1-04D0-44FC-AB82-FCEE5E52CF9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7EC8BA-50A8-49C0-87C2-6853FB163A3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D1AFC7-4CA2-4691-8A9F-81C1FE56EE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364D1B-5B61-48A1-8F49-AD427742724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1EABF2-F18A-4F5D-99C7-6D8A39B3453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B578F7-E1C0-409F-A48C-53DC1FEBC09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AF5C3-C643-40DD-905D-EB5BD69CFF4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5AB52-E575-4802-8FBB-F1BCF6A0F5E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1F2F6-FBE2-43BD-897C-820A10B3B08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A1817-6592-4322-8AEF-D1BEE22E689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8FEFE-0E24-492E-9073-E7031BDC5C9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D94C9-52E1-4403-B1B2-211C7DE5C63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0BC0A-CAF1-465B-A5D8-FF288A6A7A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3BB89-5598-4B45-849B-890C70DA275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5CD32-A7FE-4875-B91B-A69CD02BD19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5AA95-DC8B-4373-9A0D-4EC96ADE295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6CD6F-130A-4569-A5A1-73A6E211743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A29E5-A6EA-479C-BE0A-0C430A18430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617478-A754-4F3B-A2A6-306A2299920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9B4361-D79B-4E33-9CC9-3E861B26625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DFE55D-DA10-484A-A12B-9B3AADFD6FD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13B3C7-F30D-4C70-A09E-69A888E06C6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686054-7957-4452-A5A8-A8E7697A1F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9F7781-F276-4ED8-BDB6-DD327A2D25B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E4B286-3A9D-4FA5-A271-23FF9C1B048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551B66-5681-4564-A922-F72B239D9A1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253CF5-9F7E-4782-9C2D-6BE1128CC99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482CF0-8C36-48FB-BC01-E0245483B04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84867F-6B21-4DE2-BD37-36F85FBA05A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06AB17-1F96-40BB-BFA8-19B09CCE9CC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C30A75-5743-4DEF-8383-D7A98F0C0E1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A6D5FF-0C5A-45F1-8C75-474DFAD2177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55FB41-8126-4678-88A7-5A68FAC8EF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ftr" idx="17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ldNum" idx="18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1776-6FD5-4663-A196-1385B5DB42FD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ftr" idx="19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ldNum" idx="20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9ACE-816C-4D3F-864C-2EBC5A9C6D30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ftr" idx="1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B3ED-03F0-41AF-8B82-07DCEF76EFB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ftr" idx="3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4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13A9-48F9-4EBF-A38F-0032B4FA66C8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ftr" idx="5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Num" idx="6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D426-A875-46C5-B32B-56BBD9FB529D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ftr" idx="7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ldNum" idx="8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0409-705D-40F0-ABB2-B33F05B3F33F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ftr" idx="9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ldNum" idx="10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7492-1560-467E-8EE7-43D05FFD530F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6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ftr" idx="11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ldNum" idx="12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7F76-5ED3-4649-A257-BB6756AC7C60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9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ftr" idx="13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ldNum" idx="14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4615-C535-4CE0-BF49-1E57136C745B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ftr" idx="15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ldNum" idx="16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E55F-E7A0-4FB3-8C17-CB2C68F201B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2"/>
          <p:cNvSpPr/>
          <p:nvPr/>
        </p:nvSpPr>
        <p:spPr>
          <a:xfrm>
            <a:off x="539640" y="1341360"/>
            <a:ext cx="82155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rso: </a:t>
            </a:r>
            <a:r>
              <a:rPr b="1" lang="it-IT" sz="2000" spc="-1" strike="noStrike">
                <a:solidFill>
                  <a:srgbClr val="ff3300"/>
                </a:solidFill>
                <a:latin typeface="Verdana"/>
              </a:rPr>
              <a:t>Art Direction e copywriting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ocenti: Prof. Luigi Ciccognan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dLM a cui è offerto: tutti i CdLM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(no D&amp;E)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emestre: 2°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ingua di erogazione: italian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° max studenti ammessi: 90 Polimi + 15 Erasmu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odalità d’esame per non frequentanti: SI/N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991800" y="15876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orsi a scelta Laurea Magistrale - 2° semestr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I Livello – 9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Rectangle 2"/>
          <p:cNvSpPr/>
          <p:nvPr/>
        </p:nvSpPr>
        <p:spPr>
          <a:xfrm>
            <a:off x="539640" y="3789360"/>
            <a:ext cx="8280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Inserire descrizione sintetica del cors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3"/>
          <p:cNvSpPr/>
          <p:nvPr/>
        </p:nvSpPr>
        <p:spPr>
          <a:xfrm>
            <a:off x="1117080" y="15876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  <a:ea typeface="Arial"/>
              </a:rPr>
              <a:t>Corsi a scelta Laurea Magistrale - 2° semestr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I Livello – 9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Rectangle 2"/>
          <p:cNvSpPr/>
          <p:nvPr/>
        </p:nvSpPr>
        <p:spPr>
          <a:xfrm>
            <a:off x="468360" y="1268280"/>
            <a:ext cx="8351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(segue) Inserire descrizione sintetica del cors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8T13:48:10Z</dcterms:created>
  <dc:creator>Silvia</dc:creator>
  <dc:description/>
  <dc:language>en-US</dc:language>
  <cp:lastModifiedBy>Francesca Onofri</cp:lastModifiedBy>
  <cp:lastPrinted>2003-05-08T11:08:41Z</cp:lastPrinted>
  <dcterms:modified xsi:type="dcterms:W3CDTF">2014-07-04T07:42:03Z</dcterms:modified>
  <cp:revision>213</cp:revision>
  <dc:subject/>
  <dc:title>Inserire immagine della locandina, possibilmente in trasparenza e aggiungere Facoltà di Architettura Illustrazione prova di ammissione prof. Silvia Piardi (idem Cedolin)</dc:title>
</cp:coreProperties>
</file>